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BCF6-A73A-4918-8F3B-DFBFC00521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35AC-790C-4A0B-875A-EBECFCEE69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45F 5/08 (1995.01) 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44C 1/00 (1995.01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7DE8-4712-42C6-B9F8-113458759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38080" y="46483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5" descr="00000001[1]"/>
          <p:cNvPicPr/>
          <p:nvPr/>
        </p:nvPicPr>
        <p:blipFill>
          <a:blip r:embed="rId1"/>
          <a:stretch/>
        </p:blipFill>
        <p:spPr>
          <a:xfrm>
            <a:off x="685800" y="457200"/>
            <a:ext cx="5132520" cy="364500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50DE-749E-46A9-8B86-67C9E078C1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 –  Удовлетворение жизненных потребностей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01  –  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01В -  обработка почвы в сельском и лесном хозяйст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01В1/00 – . ручные ору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01В1/02 – . .  заступы; лоп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01В1/22 - . орудия для обработки лужаек или газ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E7A-6664-4188-A120-58648107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67A-2E62-4126-BE3C-C1895350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FF6-0599-40BF-A5B3-1D9E15B4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805-CBF1-4338-96A9-37B5AB15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92EE-24DF-4077-8A72-0FFA96F2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34B3-394B-4E9D-BA96-5939A7D3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4BF3-18D8-4CF3-A3EB-347889EA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F349-1892-43E0-8B48-69E3D7EB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32D4-566A-4F6E-BF9E-EE683BA1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540D-E28A-41F7-A129-BC135C93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CE51-AAA6-41A1-8272-F4ADE4BF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3BD-AC2B-43CA-A510-C090E734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E394-1308-4D51-A9E0-9371D511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8BC1-47AB-49F8-9F36-22D77F4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85A8-7A90-4189-ACC1-BBDA8134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D287-32CC-4E1C-BBE7-ACB99F34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F64C-B336-4154-ABBA-0A11FBF4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A07E3-8E3C-4838-9589-E853D405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2A620-B8B9-49AD-B1FF-75182432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CF19-6667-4FA4-A9CB-2386B66B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AB4C-F1F6-471F-AFEA-5020F97E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784A-3F17-481D-A478-41DDB97B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A1B-9B39-4D48-B45C-7E003F80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700A3-A3E5-4160-B581-F2D4FEBF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BF55-EED7-48E3-9163-0E8706EA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81F0-724E-4D20-90BB-71FF325E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3F666-7C4D-4ADB-9D4D-7723409F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5EC13-E4F1-47B9-89A5-AA87D9F5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A7CB-4B8D-44C7-83D4-2B1E58D3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D73AA-00E3-4653-B936-79A44C63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9A16-FA8C-4EDA-AE17-5BD414A0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B021-C9C2-4348-9140-426E8AEB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B81BE-7679-448C-B8C7-614806FD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2CD-4B31-49D1-A459-D6AE7C57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50245-53B2-43A7-9BBF-59D78032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C897A-E464-4BF4-9D19-8C46D5D7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BC679-674C-4212-85B7-453D4ADE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02BD7-F705-4EDB-8DF1-DBEA357F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C63F7-3EFE-4748-839E-7BFD29CF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F620-E6A0-4475-B3E7-98E227D4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E8472-CCBD-4014-A123-0E6A3950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EEAA2-0575-4DFC-AE4F-B1B70966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278B5-3BFF-48C0-A121-96CDE8D0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17A-2F6A-4DCB-816E-A3C41BB7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5BA-16A9-4100-8F80-2600B1B1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6A0-DD3B-410C-9EA1-CBF10C4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515-4CF8-4A4C-BF0E-55AA546C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2C5-853D-4F7E-8E32-97BB10EF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8573-D92A-4E34-A820-DBD6D70506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D5FB-6057-448A-9F68-DE46176C5A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9B56-7D24-4C72-9EC5-A8324D3405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D465-9A6D-47EE-BF1A-687DEDD2FC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1.fips.ru/wps/portal/IPC/IPC2015_extended_XML/?xml=http://www1.fips.ru/IPC2015_extended_XML/AIpc-20150101_subclass-G_XML%5CAIpc20150101-G04C.xml#G04C%20%2021/04" TargetMode="External"/><Relationship Id="rId2" Type="http://schemas.openxmlformats.org/officeDocument/2006/relationships/hyperlink" Target="http://www1.fips.ru/wps/portal/IPC/IPC2015_extended_XML/?xml=http://www1.fips.ru/IPC2015_extended_XML/AIpc-20150101_subclass-G_XML%5CAIpc20150101-G04C.xml#G04C%20%2021/16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8" descr="11.png"/>
          <p:cNvPicPr/>
          <p:nvPr/>
        </p:nvPicPr>
        <p:blipFill>
          <a:blip r:embed="rId1"/>
          <a:stretch/>
        </p:blipFill>
        <p:spPr>
          <a:xfrm>
            <a:off x="4838760" y="4581360"/>
            <a:ext cx="3890880" cy="19116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5280" y="1142640"/>
            <a:ext cx="755496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91405"/>
                </a:solidFill>
                <a:latin typeface="Arial"/>
              </a:rPr>
              <a:t>Назначение и основные принципы построения систем классификации.</a:t>
            </a:r>
            <a:br>
              <a:rPr sz="3600"/>
            </a:br>
            <a:r>
              <a:rPr b="1" lang="ru-RU" sz="3600" spc="-1" strike="noStrike">
                <a:solidFill>
                  <a:srgbClr val="d91405"/>
                </a:solidFill>
                <a:latin typeface="Arial"/>
              </a:rPr>
              <a:t>Электронные версии МПК</a:t>
            </a:r>
            <a:br>
              <a:rPr sz="3600"/>
            </a:br>
            <a:r>
              <a:rPr b="1" lang="ru-RU" sz="3600" spc="-1" strike="noStrike">
                <a:solidFill>
                  <a:srgbClr val="d91405"/>
                </a:solidFill>
                <a:latin typeface="Arial"/>
              </a:rPr>
              <a:t>семинар в Ташкенте,</a:t>
            </a:r>
            <a:br>
              <a:rPr sz="3600"/>
            </a:br>
            <a:r>
              <a:rPr b="1" lang="ru-RU" sz="3600" spc="-1" strike="noStrike">
                <a:solidFill>
                  <a:srgbClr val="d91405"/>
                </a:solidFill>
                <a:latin typeface="Arial"/>
              </a:rPr>
              <a:t> 26-27 марта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2019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3562200"/>
            <a:ext cx="43113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Федеральный Институт Промышленной Соб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http://www.fips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el: +7 (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495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53165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92360" y="4800240"/>
            <a:ext cx="4950000" cy="16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.н.с. Войцехов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Зоя Эдуар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32 о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9" descr="ФИПС ххх.png"/>
          <p:cNvPicPr/>
          <p:nvPr/>
        </p:nvPicPr>
        <p:blipFill>
          <a:blip r:embed="rId2"/>
          <a:stretch/>
        </p:blipFill>
        <p:spPr>
          <a:xfrm>
            <a:off x="127080" y="112680"/>
            <a:ext cx="116820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ерархичность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ерархические отношения между рубриками определяются всегда только количеством точек, стоящих перед текстом подгрупп, а не присвоенными индекс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ерархичность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01N 33/483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ий анализ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биологических матери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01N 33/487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. 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идких биологических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матери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01N 33/49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. . 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ов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01n 33/50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имический анализ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биологических матери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2951280" y="2314440"/>
            <a:ext cx="541080" cy="709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Вспомогательные инструменты для использования МП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91405"/>
                </a:solidFill>
                <a:latin typeface="Arial"/>
              </a:rPr>
              <a:t>Отсылк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) ограничите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неограничите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) о преимущест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91405"/>
                </a:solidFill>
                <a:latin typeface="Arial"/>
              </a:rPr>
              <a:t>Примеч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91405"/>
                </a:solidFill>
                <a:latin typeface="Arial"/>
              </a:rPr>
              <a:t>Определения в электронном сл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91405"/>
                </a:solidFill>
                <a:latin typeface="Arial"/>
              </a:rPr>
              <a:t>АП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сылки ограничительны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Указывают на тематику, которая не классифицируется в данной рубрике!</a:t>
            </a:r>
            <a:r>
              <a:rPr b="0" lang="en-US" sz="4800" spc="-1" strike="noStrike">
                <a:solidFill>
                  <a:srgbClr val="b972e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comic"/>
              </a:rPr>
              <a:t>Пример отсыл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G02B 3/0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стые или сложные линзы 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(искусственные глаза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63F 2/14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; контактные линзы для глаз или для очков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02C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; стекла для часов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04B39/00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сылки о преимуществ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Указывают на группу, которая имеет приоритет при классифицировании данного объ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cc"/>
                </a:solidFill>
                <a:latin typeface="Arial"/>
              </a:rPr>
              <a:t>Пример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G04C21/02  .электромеханические часы, конструктивные элементы ( </a:t>
            </a:r>
            <a:r>
              <a:rPr b="0" lang="ru-RU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21/04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21/16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имеют преимущество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G04C 21/04  .для индикации времени суток (индикация времени с помощью акустических устройств  G 04B 21/0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нформативные отсыл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693200" cy="4419360"/>
          </a:xfrm>
          <a:prstGeom prst="rect">
            <a:avLst/>
          </a:prstGeom>
          <a:noFill/>
          <a:ln w="9360">
            <a:solidFill>
              <a:srgbClr val="b972e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91405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d91405"/>
                </a:solidFill>
                <a:latin typeface="Arial"/>
              </a:rPr>
              <a:t>Приводятся только в тексте </a:t>
            </a:r>
            <a:r>
              <a:rPr b="1" lang="ru-RU" sz="3000" spc="-1" strike="noStrike">
                <a:solidFill>
                  <a:srgbClr val="d91405"/>
                </a:solidFill>
                <a:latin typeface="Arial"/>
              </a:rPr>
              <a:t>Определений</a:t>
            </a:r>
            <a:r>
              <a:rPr b="0" lang="en-US" sz="3000" spc="-1" strike="noStrike">
                <a:solidFill>
                  <a:srgbClr val="d91405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Указывают на тематику, сходную с той, которая классифицируется в данной рубрике.</a:t>
            </a:r>
            <a:r>
              <a:rPr b="0" lang="ru-RU" sz="3000" spc="-1" strike="noStrike">
                <a:solidFill>
                  <a:srgbClr val="ed835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0000ff"/>
                </a:solidFill>
                <a:latin typeface="Arial"/>
              </a:rPr>
              <a:t>Например, указывают на область использования данного вида техн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р информативной отсыл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06F12/00 -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ка, адресация или распределение данных в системах или архитектурах памяти [4,5]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nformative referenc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Information storage in gener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G11B, G11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содерж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уществуют в электронном сло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Для перехода служит буква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“D”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около индекса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0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7391160" cy="20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9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уктура опред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179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 содержания подразделени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Definition state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связь с крупными тематическими областями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ычно на уровне подкласс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) (Relationships between large subject matter areas (usually at subclass level)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сылки, имеющие отношение к классификации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References relevant to classific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вные отсылки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nformative reference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циальные правила классифицирования в пределах подкласса / группы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Special rules of classification within the subclass /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оссарий терминов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Glossary of term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онимы и ключевые словарь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Synonyms and keyword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создания МП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сбургское соглашение 1971 о Международной патентной классификации, вступившее в силу 7 октября 1975 года, предусматривает создание единой системы классификации, охватывающей патенты на изобретения, включая опубликованные патентные заявки, полезные модели и свидетельства о полезности . Первая редакция МПК действовала 1 сентября 1968 года по 30 июня 197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р опред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868680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аголовок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61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екарства и медикаменты для терапевтических, стоматологических или гигиенических ц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Определение содерж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 данному подклассу относятс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ставы, которые используютс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 качестве медикаментов для стоматологии, например для искусственных зубов, для пломбирования или для покрытия зубов или для получения слепков для зубных проте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ч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Примеч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азъясняют значение употребляемых терминов и выражений, определяют объем рубрик или указывают, каким образом следует классифицировать ту или иную тематик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Примеч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огут относится к разделам, классам, подклассам, подзаголовкам, группам и подгрупп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543800" cy="5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имечан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684000"/>
            <a:ext cx="8229600" cy="54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Примеч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аспространяются на те места системы классификации, в которых они содержатся, и в случаях расхождения с общими правилами им отдается предпочт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, примечание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1) после заголовка подкласс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08F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меет преимущество перед примечанием после заголовка раздела 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р примеч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31400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D01F 6/00 Однокомпонентные синтетические или искусственные мононити или подобные нити из синтетических полимеров; их производство [2]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Примечание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классификации в этой группе основную составляющую сополимера выражают в мольных процентах. [8]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Функционально-ориентированные и отраслевые подразделения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936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ъект вообще – 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функционально-ориентированное подраз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B01D – </a:t>
            </a: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Фильтрование; фильтрующий материал; его регенер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«специально приспособленный для» особого использования или цели –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траслевое подраз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61М 5/165 – фильтры для крови или для вливания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лфавитно-предметный указатель (АПУ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т инструмент разработан для облегчения ориентации в МПК, в нем все технические понятия, содержащиеся в МПК, расположены в алфавитном поряд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Автоколлиматоры     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G02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-,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использование 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металлорежущих станках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B23Q 17/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-,-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в спектрометрии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G01J 3/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циональные классифик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данный момент существует только одна национальная классификация в Японском патентном ведомств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нее существовали немецкая патентная классификация, американская патентная классификация, а также европейская патентная классификация, которая использовалась в Международном Институте по патент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имеры соответствия индекса МПК А01В1/04 в национальных классификациях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3047760"/>
            <a:ext cx="402588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Американская классифик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294/50.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343040" y="3048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Arial"/>
              </a:rPr>
              <a:t>Японская классифик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Arial"/>
              </a:rPr>
              <a:t>А01В 1/04  2В03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МПК и СПК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99864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местная Патентная Классификация была создана в 2013 году на основе классифик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CLA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ставляет собой более подробную, гибкую систему. Имеет те же принципы построения, что и МПК, но имеет отличия: систему индексирующих кодов, дополняющих схему. Рубрики в фигурных скобках  - это рубрики, отсутствующие в МП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6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П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эффективный инструмент поиска релевантных документов в международном масшта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cc"/>
                </a:solidFill>
                <a:latin typeface="Arial"/>
              </a:rPr>
              <a:t>- основа для определения области техники в отдельных облас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- основа статистического анализа уровня развития различных отраслей техн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Список полезных адресов электронных адресов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fip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multitra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.int/classifications/ipc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epo.org/searching-for-patents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:\Users\otd3202\Desktop\207045_record-8850-768x576.jpg"/>
          <p:cNvPicPr/>
          <p:nvPr/>
        </p:nvPicPr>
        <p:blipFill>
          <a:blip r:embed="rId1"/>
          <a:stretch/>
        </p:blipFill>
        <p:spPr>
          <a:xfrm>
            <a:off x="482760" y="851040"/>
            <a:ext cx="80452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НЦИПЫ ПОСТРОЕНИЯ МП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ПК имеет иерархическую структур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делы – 8 разде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ы - 1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классы - 63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ы – 7 3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руппы – 61 4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7F83-535D-4D7E-87AD-1E64A057F4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cc00"/>
                </a:solidFill>
                <a:latin typeface="comic"/>
              </a:rPr>
              <a:t>Иерархическая структура МП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84" name="Diagram 3"/>
          <p:cNvGrpSpPr/>
          <p:nvPr/>
        </p:nvGrpSpPr>
        <p:grpSpPr>
          <a:xfrm>
            <a:off x="2296800" y="1612440"/>
            <a:ext cx="4416480" cy="4486680"/>
            <a:chOff x="2296800" y="1612440"/>
            <a:chExt cx="4416480" cy="4486680"/>
          </a:xfrm>
        </p:grpSpPr>
        <p:sp>
          <p:nvSpPr>
            <p:cNvPr id="285" name="_s1028"/>
            <p:cNvSpPr/>
            <p:nvPr/>
          </p:nvSpPr>
          <p:spPr>
            <a:xfrm flipH="1" flipV="1">
              <a:off x="3854160" y="2255400"/>
              <a:ext cx="556200" cy="13636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029"/>
            <p:cNvSpPr/>
            <p:nvPr/>
          </p:nvSpPr>
          <p:spPr>
            <a:xfrm>
              <a:off x="3501360" y="176436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030"/>
            <p:cNvSpPr/>
            <p:nvPr/>
          </p:nvSpPr>
          <p:spPr>
            <a:xfrm flipH="1" flipV="1">
              <a:off x="3300840" y="2630160"/>
              <a:ext cx="1028160" cy="10429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031"/>
            <p:cNvSpPr/>
            <p:nvPr/>
          </p:nvSpPr>
          <p:spPr>
            <a:xfrm>
              <a:off x="2868120" y="219564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032"/>
            <p:cNvSpPr/>
            <p:nvPr/>
          </p:nvSpPr>
          <p:spPr>
            <a:xfrm flipH="1" flipV="1">
              <a:off x="2931120" y="3191040"/>
              <a:ext cx="1342440" cy="5652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033"/>
            <p:cNvSpPr/>
            <p:nvPr/>
          </p:nvSpPr>
          <p:spPr>
            <a:xfrm>
              <a:off x="2445120" y="284076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034"/>
            <p:cNvSpPr/>
            <p:nvPr/>
          </p:nvSpPr>
          <p:spPr>
            <a:xfrm flipH="1">
              <a:off x="2801160" y="3854160"/>
              <a:ext cx="14529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035"/>
            <p:cNvSpPr/>
            <p:nvPr/>
          </p:nvSpPr>
          <p:spPr>
            <a:xfrm>
              <a:off x="2296800" y="360108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6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036"/>
            <p:cNvSpPr/>
            <p:nvPr/>
          </p:nvSpPr>
          <p:spPr>
            <a:xfrm flipH="1">
              <a:off x="2931120" y="3951360"/>
              <a:ext cx="1342440" cy="5652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037"/>
            <p:cNvSpPr/>
            <p:nvPr/>
          </p:nvSpPr>
          <p:spPr>
            <a:xfrm>
              <a:off x="2446560" y="436176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038"/>
            <p:cNvSpPr/>
            <p:nvPr/>
          </p:nvSpPr>
          <p:spPr>
            <a:xfrm flipH="1">
              <a:off x="3300840" y="4034520"/>
              <a:ext cx="1026720" cy="10429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039"/>
            <p:cNvSpPr/>
            <p:nvPr/>
          </p:nvSpPr>
          <p:spPr>
            <a:xfrm>
              <a:off x="2871360" y="500652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040"/>
            <p:cNvSpPr/>
            <p:nvPr/>
          </p:nvSpPr>
          <p:spPr>
            <a:xfrm flipH="1">
              <a:off x="3852360" y="4088880"/>
              <a:ext cx="556200" cy="13636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041"/>
            <p:cNvSpPr/>
            <p:nvPr/>
          </p:nvSpPr>
          <p:spPr>
            <a:xfrm>
              <a:off x="3506040" y="543636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_s1042"/>
            <p:cNvSpPr/>
            <p:nvPr/>
          </p:nvSpPr>
          <p:spPr>
            <a:xfrm>
              <a:off x="4503600" y="4108680"/>
              <a:ext cx="1440" cy="1476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1043"/>
            <p:cNvSpPr/>
            <p:nvPr/>
          </p:nvSpPr>
          <p:spPr>
            <a:xfrm>
              <a:off x="4254480" y="558684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_s1044"/>
            <p:cNvSpPr/>
            <p:nvPr/>
          </p:nvSpPr>
          <p:spPr>
            <a:xfrm>
              <a:off x="4601520" y="4088880"/>
              <a:ext cx="554400" cy="13654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_s1045"/>
            <p:cNvSpPr/>
            <p:nvPr/>
          </p:nvSpPr>
          <p:spPr>
            <a:xfrm>
              <a:off x="5003280" y="543456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1046"/>
            <p:cNvSpPr/>
            <p:nvPr/>
          </p:nvSpPr>
          <p:spPr>
            <a:xfrm>
              <a:off x="4682520" y="4034520"/>
              <a:ext cx="1026720" cy="10447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_s1047"/>
            <p:cNvSpPr/>
            <p:nvPr/>
          </p:nvSpPr>
          <p:spPr>
            <a:xfrm>
              <a:off x="5637960" y="500328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1048"/>
            <p:cNvSpPr/>
            <p:nvPr/>
          </p:nvSpPr>
          <p:spPr>
            <a:xfrm>
              <a:off x="4736520" y="3951360"/>
              <a:ext cx="1342440" cy="567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1049"/>
            <p:cNvSpPr/>
            <p:nvPr/>
          </p:nvSpPr>
          <p:spPr>
            <a:xfrm>
              <a:off x="6060960" y="435816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1050"/>
            <p:cNvSpPr/>
            <p:nvPr/>
          </p:nvSpPr>
          <p:spPr>
            <a:xfrm>
              <a:off x="4755600" y="3854160"/>
              <a:ext cx="1452960" cy="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_s1051"/>
            <p:cNvSpPr/>
            <p:nvPr/>
          </p:nvSpPr>
          <p:spPr>
            <a:xfrm>
              <a:off x="6208920" y="359784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1052"/>
            <p:cNvSpPr/>
            <p:nvPr/>
          </p:nvSpPr>
          <p:spPr>
            <a:xfrm flipV="1">
              <a:off x="4736520" y="3192840"/>
              <a:ext cx="1342440" cy="5637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_s1053"/>
            <p:cNvSpPr/>
            <p:nvPr/>
          </p:nvSpPr>
          <p:spPr>
            <a:xfrm>
              <a:off x="6059520" y="283716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1054"/>
            <p:cNvSpPr/>
            <p:nvPr/>
          </p:nvSpPr>
          <p:spPr>
            <a:xfrm flipV="1">
              <a:off x="4681080" y="2630160"/>
              <a:ext cx="1028160" cy="10429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_s1055"/>
            <p:cNvSpPr/>
            <p:nvPr/>
          </p:nvSpPr>
          <p:spPr>
            <a:xfrm>
              <a:off x="5634720" y="219240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1056"/>
            <p:cNvSpPr/>
            <p:nvPr/>
          </p:nvSpPr>
          <p:spPr>
            <a:xfrm flipV="1">
              <a:off x="4599720" y="2255400"/>
              <a:ext cx="556200" cy="13636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1057"/>
            <p:cNvSpPr/>
            <p:nvPr/>
          </p:nvSpPr>
          <p:spPr>
            <a:xfrm>
              <a:off x="5000040" y="176292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1058"/>
            <p:cNvSpPr/>
            <p:nvPr/>
          </p:nvSpPr>
          <p:spPr>
            <a:xfrm flipV="1">
              <a:off x="4503600" y="2125080"/>
              <a:ext cx="0" cy="1476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1059"/>
            <p:cNvSpPr/>
            <p:nvPr/>
          </p:nvSpPr>
          <p:spPr>
            <a:xfrm>
              <a:off x="4251240" y="161244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1060"/>
            <p:cNvSpPr/>
            <p:nvPr/>
          </p:nvSpPr>
          <p:spPr>
            <a:xfrm>
              <a:off x="4251240" y="3601080"/>
              <a:ext cx="504360" cy="512280"/>
            </a:xfrm>
            <a:prstGeom prst="ellipse">
              <a:avLst/>
            </a:prstGeom>
            <a:solidFill>
              <a:srgbClr val="bb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41"/>
          <p:cNvSpPr/>
          <p:nvPr/>
        </p:nvSpPr>
        <p:spPr>
          <a:xfrm>
            <a:off x="480960" y="566100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A01 – A63 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2"/>
          <p:cNvSpPr/>
          <p:nvPr/>
        </p:nvSpPr>
        <p:spPr>
          <a:xfrm>
            <a:off x="179280" y="1413000"/>
            <a:ext cx="2880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ребност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62A4-F532-4722-A0E8-A521BCC01C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81900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ждународная патентная классификация (МПК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23" name="Diagram 30"/>
          <p:cNvGrpSpPr/>
          <p:nvPr/>
        </p:nvGrpSpPr>
        <p:grpSpPr>
          <a:xfrm>
            <a:off x="847080" y="1473840"/>
            <a:ext cx="6085440" cy="5271480"/>
            <a:chOff x="847080" y="1473840"/>
            <a:chExt cx="6085440" cy="5271480"/>
          </a:xfrm>
        </p:grpSpPr>
        <p:sp>
          <p:nvSpPr>
            <p:cNvPr id="324" name="_s2052"/>
            <p:cNvSpPr/>
            <p:nvPr/>
          </p:nvSpPr>
          <p:spPr>
            <a:xfrm flipV="1">
              <a:off x="3382920" y="1473840"/>
              <a:ext cx="1013400" cy="877680"/>
            </a:xfrm>
            <a:custGeom>
              <a:avLst/>
              <a:gdLst>
                <a:gd name="textAreaLeft" fmla="*/ 363600 w 1013400"/>
                <a:gd name="textAreaRight" fmla="*/ 649800 w 1013400"/>
                <a:gd name="textAreaTop" fmla="*/ 315000 h 877680"/>
                <a:gd name="textAreaBottom" fmla="*/ 562680 h 8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2ef6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53"/>
            <p:cNvSpPr/>
            <p:nvPr/>
          </p:nvSpPr>
          <p:spPr>
            <a:xfrm flipV="1">
              <a:off x="2876040" y="2351880"/>
              <a:ext cx="2027160" cy="879840"/>
            </a:xfrm>
            <a:custGeom>
              <a:avLst/>
              <a:gdLst>
                <a:gd name="textAreaLeft" fmla="*/ 445680 w 2027160"/>
                <a:gd name="textAreaRight" fmla="*/ 1581480 w 2027160"/>
                <a:gd name="textAreaTop" fmla="*/ 193320 h 879840"/>
                <a:gd name="textAreaBottom" fmla="*/ 686520 h 87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2a4e4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54"/>
            <p:cNvSpPr/>
            <p:nvPr/>
          </p:nvSpPr>
          <p:spPr>
            <a:xfrm flipV="1">
              <a:off x="2369880" y="3231720"/>
              <a:ext cx="3040200" cy="877680"/>
            </a:xfrm>
            <a:custGeom>
              <a:avLst/>
              <a:gdLst>
                <a:gd name="textAreaLeft" fmla="*/ 527760 w 3040200"/>
                <a:gd name="textAreaRight" fmla="*/ 2512440 w 3040200"/>
                <a:gd name="textAreaTop" fmla="*/ 152280 h 877680"/>
                <a:gd name="textAreaBottom" fmla="*/ 725400 h 8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d835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01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55"/>
            <p:cNvSpPr/>
            <p:nvPr/>
          </p:nvSpPr>
          <p:spPr>
            <a:xfrm flipV="1">
              <a:off x="1860480" y="4109760"/>
              <a:ext cx="4059000" cy="877680"/>
            </a:xfrm>
            <a:custGeom>
              <a:avLst/>
              <a:gdLst>
                <a:gd name="textAreaLeft" fmla="*/ 610560 w 4059000"/>
                <a:gd name="textAreaRight" fmla="*/ 3448440 w 4059000"/>
                <a:gd name="textAreaTop" fmla="*/ 131760 h 877680"/>
                <a:gd name="textAreaBottom" fmla="*/ 745920 h 8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aef0b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01B 1/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2056"/>
            <p:cNvSpPr/>
            <p:nvPr/>
          </p:nvSpPr>
          <p:spPr>
            <a:xfrm flipV="1">
              <a:off x="1353960" y="4987440"/>
              <a:ext cx="5071680" cy="877680"/>
            </a:xfrm>
            <a:custGeom>
              <a:avLst/>
              <a:gdLst>
                <a:gd name="textAreaLeft" fmla="*/ 692640 w 5071680"/>
                <a:gd name="textAreaRight" fmla="*/ 4379040 w 5071680"/>
                <a:gd name="textAreaTop" fmla="*/ 119880 h 877680"/>
                <a:gd name="textAreaBottom" fmla="*/ 757800 h 8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b972e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01B 1/0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_s2057"/>
            <p:cNvSpPr/>
            <p:nvPr/>
          </p:nvSpPr>
          <p:spPr>
            <a:xfrm flipV="1">
              <a:off x="847080" y="5865120"/>
              <a:ext cx="6085440" cy="879840"/>
            </a:xfrm>
            <a:custGeom>
              <a:avLst/>
              <a:gdLst>
                <a:gd name="textAreaLeft" fmla="*/ 774720 w 6085440"/>
                <a:gd name="textAreaRight" fmla="*/ 5310720 w 6085440"/>
                <a:gd name="textAreaTop" fmla="*/ 111960 h 879840"/>
                <a:gd name="textAreaBottom" fmla="*/ 767880 h 87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90ecf8"/>
            </a:solidFill>
            <a:ln w="4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01В 1/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39"/>
          <p:cNvSpPr/>
          <p:nvPr/>
        </p:nvSpPr>
        <p:spPr>
          <a:xfrm>
            <a:off x="4347360" y="1752480"/>
            <a:ext cx="44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 – Удовлетворение жизн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ребностей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1"/>
          <p:cNvSpPr/>
          <p:nvPr/>
        </p:nvSpPr>
        <p:spPr>
          <a:xfrm>
            <a:off x="5921280" y="411012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группа – Ру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у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2"/>
          <p:cNvSpPr/>
          <p:nvPr/>
        </p:nvSpPr>
        <p:spPr>
          <a:xfrm>
            <a:off x="6172200" y="4849920"/>
            <a:ext cx="26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точечная подгруппа – заступы; лоп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5"/>
          <p:cNvSpPr/>
          <p:nvPr/>
        </p:nvSpPr>
        <p:spPr>
          <a:xfrm>
            <a:off x="5527080" y="313704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класс-Обработка поч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6"/>
          <p:cNvSpPr/>
          <p:nvPr/>
        </p:nvSpPr>
        <p:spPr>
          <a:xfrm>
            <a:off x="4899960" y="249552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7"/>
          <p:cNvSpPr/>
          <p:nvPr/>
        </p:nvSpPr>
        <p:spPr>
          <a:xfrm>
            <a:off x="6785280" y="5943600"/>
            <a:ext cx="18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ухточеч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рупп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зубь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Архитектоника классификационных индексов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декс (раздела, класса, подкласс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головок (раздела, класса, подкласс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держание (раздела, класса, подкласс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Архитектоника классификационных индексов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2394000"/>
            <a:ext cx="8229600" cy="16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en-US" sz="6500" spc="-1" strike="noStrike">
                <a:solidFill>
                  <a:srgbClr val="008000"/>
                </a:solidFill>
                <a:latin typeface="Arial"/>
              </a:rPr>
              <a:t>G02B5/08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Архитектоника классификационных индексов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533520" y="2114640"/>
            <a:ext cx="8610480" cy="384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-  ФИЗ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G02 -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П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G02B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ОПТИЧЕСКИЕ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02B 5/00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ПТИЧЕСКИЕ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ЛЕМЕНТЫ, ИНЫЕ ЧЕМ ЛИНЗЫ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G02B 5/08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ЕР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хомиров Игорь Игоревич</dc:creator>
  <dc:description/>
  <dc:language>en-US</dc:language>
  <cp:lastModifiedBy>otd3202</cp:lastModifiedBy>
  <dcterms:modified xsi:type="dcterms:W3CDTF">2019-03-18T08:22:16Z</dcterms:modified>
  <cp:revision>1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